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832-BC94-4B4E-8997-BE5F7573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75A7-2B0F-449A-A0F9-3B77202E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1BE-9259-49EA-AF3D-24CFF7B1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AAA-F4E9-4ADF-8D1D-0EFB0BF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7ED-7E4B-4F5A-9407-0DB5A9A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62B-F49E-4FF4-9AE1-F383958A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6F7-56B3-4BD2-A636-BECD3AAD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74B-45A7-468D-BF55-E072F2B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02B-FE93-4255-A008-1D2FF825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E47-9DF7-431B-AB82-56E595C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D5E-46D6-4294-8E99-7A1BC5F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D05-9CD5-4010-8FED-96616FFD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dc9"/>
            </a:gs>
            <a:gs pos="100000">
              <a:srgbClr val="00006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26DC-5C9C-4AA1-977D-A618B168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dc9"/>
            </a:gs>
            <a:gs pos="100000">
              <a:srgbClr val="00006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7540560"/>
            <a:ext cx="1095480" cy="155520"/>
          </a:xfrm>
          <a:prstGeom prst="ellipse">
            <a:avLst/>
          </a:prstGeom>
          <a:gradFill rotWithShape="0">
            <a:gsLst>
              <a:gs pos="0">
                <a:srgbClr val="0066d6">
                  <a:alpha val="50196"/>
                </a:srgbClr>
              </a:gs>
              <a:gs pos="100000">
                <a:srgbClr val="3e8b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79246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7848720"/>
            <a:ext cx="1066680" cy="1066680"/>
          </a:xfrm>
          <a:prstGeom prst="ellipse">
            <a:avLst/>
          </a:prstGeom>
          <a:noFill/>
          <a:ln w="216000">
            <a:solidFill>
              <a:srgbClr val="0000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49080" y="2878920"/>
            <a:ext cx="5313960" cy="5348520"/>
            <a:chOff x="649080" y="2878920"/>
            <a:chExt cx="5313960" cy="5348520"/>
          </a:xfrm>
        </p:grpSpPr>
        <p:sp>
          <p:nvSpPr>
            <p:cNvPr id="45" name=""/>
            <p:cNvSpPr/>
            <p:nvPr/>
          </p:nvSpPr>
          <p:spPr>
            <a:xfrm>
              <a:off x="2438280" y="4572000"/>
              <a:ext cx="1752840" cy="160020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5638680"/>
              <a:ext cx="1295280" cy="1524240"/>
            </a:xfrm>
            <a:prstGeom prst="rect">
              <a:avLst/>
            </a:prstGeom>
            <a:solidFill>
              <a:srgbClr val="008b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6629400"/>
              <a:ext cx="1219320" cy="1143000"/>
            </a:xfrm>
            <a:prstGeom prst="rect">
              <a:avLst/>
            </a:prstGeom>
            <a:solidFill>
              <a:srgbClr val="008b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73160" y="6146640"/>
              <a:ext cx="1095480" cy="981360"/>
            </a:xfrm>
            <a:prstGeom prst="ellipse">
              <a:avLst/>
            </a:prstGeom>
            <a:gradFill rotWithShape="0">
              <a:gsLst>
                <a:gs pos="0">
                  <a:srgbClr val="89cfff"/>
                </a:gs>
                <a:gs pos="100000">
                  <a:srgbClr val="008bea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 rot="18811800">
              <a:off x="1531080" y="4810320"/>
              <a:ext cx="3141720" cy="227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RingOutside">
                <a:avLst>
                  <a:gd name="adj" fmla="val 933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5daa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PUBLIC    SERVICE    AGREEMENT     </a:t>
              </a:r>
              <a:endPara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5daa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 rot="18811800">
              <a:off x="1181880" y="3906000"/>
              <a:ext cx="4248000" cy="329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RingOutside">
                <a:avLst>
                  <a:gd name="adj" fmla="val 96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db3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</a:rPr>
                <a:t>OFFICE    OF   THE   ECONOMIC   AND   SOCIAL   DEVELOPMENT    BOARD     </a:t>
              </a:r>
              <a:endPara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50196"/>
                      </a:srgbClr>
                    </a:gs>
                    <a:gs pos="100000">
                      <a:srgbClr val="6db3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95680" y="6019920"/>
              <a:ext cx="762120" cy="60948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6556320"/>
              <a:ext cx="644400" cy="530280"/>
            </a:xfrm>
            <a:prstGeom prst="rect">
              <a:avLst/>
            </a:prstGeom>
            <a:solidFill>
              <a:srgbClr val="008b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05320" y="7020000"/>
              <a:ext cx="468360" cy="371520"/>
            </a:xfrm>
            <a:prstGeom prst="rect">
              <a:avLst/>
            </a:prstGeom>
            <a:solidFill>
              <a:srgbClr val="008b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0200" y="4572000"/>
              <a:ext cx="609480" cy="68580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5410080"/>
              <a:ext cx="457200" cy="533520"/>
            </a:xfrm>
            <a:prstGeom prst="rect">
              <a:avLst/>
            </a:prstGeom>
            <a:solidFill>
              <a:srgbClr val="008b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6105600"/>
              <a:ext cx="457200" cy="447480"/>
            </a:xfrm>
            <a:prstGeom prst="rect">
              <a:avLst/>
            </a:prstGeom>
            <a:solidFill>
              <a:srgbClr val="008b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400" y="3352680"/>
              <a:ext cx="2057400" cy="2057400"/>
            </a:xfrm>
            <a:prstGeom prst="rect">
              <a:avLst/>
            </a:prstGeom>
            <a:solidFill>
              <a:srgbClr val="008be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81480" y="5486400"/>
              <a:ext cx="762120" cy="60948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52480" y="3505320"/>
              <a:ext cx="685800" cy="83808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 txBox="1"/>
          <p:nvPr/>
        </p:nvSpPr>
        <p:spPr>
          <a:xfrm>
            <a:off x="1600200" y="8248680"/>
            <a:ext cx="5029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asmine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asmineUPC"/>
              <a:ea typeface="JasmineUPC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1828800"/>
            <a:ext cx="5257800" cy="1066680"/>
            <a:chOff x="838080" y="1828800"/>
            <a:chExt cx="5257800" cy="1066680"/>
          </a:xfrm>
        </p:grpSpPr>
        <p:sp>
          <p:nvSpPr>
            <p:cNvPr id="62" name=""/>
            <p:cNvSpPr txBox="1"/>
            <p:nvPr/>
          </p:nvSpPr>
          <p:spPr>
            <a:xfrm>
              <a:off x="1066680" y="2666880"/>
              <a:ext cx="2971800" cy="2286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JasmineUPC"/>
                </a:rPr>
                <a:t>ประจำปีงบประมาณ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asmineUPC"/>
                <a:ea typeface="JasmineUPC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4343400" y="2514600"/>
              <a:ext cx="1523880" cy="380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JasmineUPC"/>
                </a:rPr>
                <a:t>2549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asmineUPC"/>
                <a:ea typeface="JasmineUPC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838080" y="1828800"/>
              <a:ext cx="5257800" cy="838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JasmineUPC"/>
                </a:rPr>
                <a:t>คำรับรองการปฏิบัติราชการ</a:t>
              </a: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asmineUPC"/>
                <a:ea typeface="JasmineUP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asmineUPC"/>
                <a:ea typeface="JasmineUPC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43200" y="228600"/>
            <a:ext cx="1352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5:54Z</dcterms:created>
  <dc:creator>win</dc:creator>
  <dc:description/>
  <dc:language>en-US</dc:language>
  <cp:lastModifiedBy>iLLuSioN</cp:lastModifiedBy>
  <dcterms:modified xsi:type="dcterms:W3CDTF">2006-02-23T06:37:55Z</dcterms:modified>
  <cp:revision>17</cp:revision>
  <dc:subject/>
  <dc:title>Slide 1</dc:title>
</cp:coreProperties>
</file>